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673A8E3-A27E-42C1-AA9E-267ABDFB5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0882542-7F24-4A1C-BDE6-2F42E203C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2D2E5E7-273A-4949-969F-B76B28B575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CBC772E-13B2-4B27-94F8-4FAD12655AF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5146F-C0D4-47DD-816D-ABD06D744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42780-BA21-4A60-BE11-CCBA665BE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37B2D-F975-4493-98D1-0F65B230A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7339A-3B94-4FA5-B7F3-D463A7A17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3D16F-A45D-4FF3-A4DF-3CEBF3DF9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770EE-188B-4C2C-8F54-D202C3901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A1299-DA89-4CE7-A87D-3E2AD2244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4AB1B45-2204-4903-933F-9120089DF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FB8DD-85B7-4E65-A9DD-41CFC2C2D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E0736-E2FB-49CA-BD5B-6198526F0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19216-B8A6-4444-AE47-27C5C5C2D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980DB-BF42-4E71-BAFF-4D0141605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176D8-790B-47EE-A9AD-289A44912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687543C-9B76-40EB-88C1-BD547AC35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B057944-7EE2-44F9-9A0C-7FB121588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4BC6312-6ED1-43AC-8930-B1A193013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CE4F8FF-7F01-4CE5-B4B0-8089A50A3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0D8D8B4-5DA5-4E7E-A4F6-0339DC9659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8EFE5EA-0EC4-47CF-9755-13ED3F97D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D8718F8-E3A7-412C-8EEF-8EBA19E4177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04A6-7FE4-4838-BD9A-99B4A9730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Rectangle 18"/>
            <p:cNvSpPr/>
            <p:nvPr/>
          </p:nvSpPr>
          <p:spPr>
            <a:xfrm flipH="1" flipV="1" rot="18391200">
              <a:off x="853020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20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20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981D-3E81-4E25-B83F-98FFB443C59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to do a common thing in an uncommon wa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Booker T. Washington</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must have excellence, but we must also have accessibility to that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harles Vest</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rue happiness is the full use of your powers along lines of excellence in a life affording scop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hn F. Kennedy</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don’t get a chance to do that many things, and everyone should be really excellen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Steve Jobs</a:t>
            </a:r>
            <a:endParaRPr b="0" lang="en-US" sz="4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an art won by training and habituation…We are what we repeatedly do. Excellence, then, is not an act but a habi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ristotle</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should not judge people by their peak of excellence; but by the distance they have traveled from the point where they started.</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Henry Ward Beecher</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ree things you cannot recover in life; the WORD after its said, the MOMENT after its missed and the TIME after its gone. Be careful!</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Sunday Adelaja</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t’s hard to do a really good job on anything you don’t think about in the showe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ul Graham</a:t>
            </a:r>
            <a:endParaRPr b="0" lang="en-US" sz="4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f you want to achieve excellence, you can get there today. As of this second, quit doing less-than-excellent work.</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homas Watson</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f you are going to achieve excellence in big things, you develop the habit in little matters. Excellence is not an exception, it is a prevailing attitud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harles R. Swindoll</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
          <p:cNvSpPr/>
          <p:nvPr/>
        </p:nvSpPr>
        <p:spPr>
          <a:xfrm>
            <a:off x="1143000" y="990720"/>
            <a:ext cx="7010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I have one life and one chance to make it count for something... My faith demands that I do whatever I can, wherever I am, whenever I can, for as long as I can with whatever I have to try to make a differenc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Jimmy Carter</a:t>
            </a: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noblest search is the search for excellenc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Lyndon B. Johnson</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reward for work well done is the opportunity to do mor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nas Salk</a:t>
            </a: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You must be resolutely determined that whatever you do shall always be the best of which you are capabl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harles Popplestone</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re is no excellence without labor. One cannot dream oneself into either usefulness or happines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Liberty Bailey</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distinguish the excellent man from the common man by saying that the former is the one who makes great demands on himself, and the latter who makes no demands on himself.</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se Gasset</a:t>
            </a: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t is not how much you do, but how much love you put in the doing.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other Theresa</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ometimes it is the people no one imagines anything of who do the things that no one can imagin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lan Turing</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orry not that no one knows of you; seek to be worth knowing.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onfucius</a:t>
            </a:r>
            <a:endParaRPr b="0" lang="en-US" sz="4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Good teaching cannot be reduced to technique; good teaching comes from the identity and integrity of the teache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rker Palmer</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
          <p:cNvSpPr/>
          <p:nvPr/>
        </p:nvSpPr>
        <p:spPr>
          <a:xfrm>
            <a:off x="1143000" y="990720"/>
            <a:ext cx="7010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hatever you are, be a good on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braham Lincoln</a:t>
            </a: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ducation is the most powerful weapon which you can use to change the world.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Nelson Mandela</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 was raised to believe that excellence is the best deterrent to racism or sexism. And that's how I operate my lif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Oprah Winfrey</a:t>
            </a:r>
            <a:endParaRPr b="0" lang="en-US" sz="4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ursing is all about touching lives, and lives touching yours along the way.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Unknown</a:t>
            </a:r>
            <a:endParaRPr b="0" lang="en-US" sz="4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lways look up at the stars and not down at your feet. Try to make sense of what you see, and wonder about what makes the universe exist. Be curiou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Stephen Hawking</a:t>
            </a: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 this life we cannot always do great things, but we can do small things with great lov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other </a:t>
            </a:r>
            <a:r>
              <a:rPr b="0" lang="en-US" sz="4000" spc="-1" strike="noStrike">
                <a:solidFill>
                  <a:srgbClr val="ffffff"/>
                </a:solidFill>
                <a:latin typeface="Arial"/>
              </a:rPr>
              <a:t>Teresa</a:t>
            </a:r>
            <a:endParaRPr b="0" lang="en-US" sz="4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uccess is not final, failure is not fatal: It is the courage to continue that count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Winston Churchill </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
          <p:cNvSpPr/>
          <p:nvPr/>
        </p:nvSpPr>
        <p:spPr>
          <a:xfrm>
            <a:off x="1143000" y="990720"/>
            <a:ext cx="7010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always sell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Earl Nightingale</a:t>
            </a:r>
            <a:endParaRPr b="0" lang="en-US" sz="4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ust make up your mind at the very outset that your work is going to stand for quality... that whatever you do shall bear the hallmark of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Orison Swett Marden</a:t>
            </a: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ot everyone needs to believe in your dream, but you do.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hris Guillebeau</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future belongs to those who believe in the beauty of their dream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Eleanor Roosevelt</a:t>
            </a:r>
            <a:endParaRPr b="0" lang="en-US" sz="4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o matter what anyone tells you, words and ideas can change the world.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Robin Williams</a:t>
            </a:r>
            <a:endParaRPr b="0" lang="en-US" sz="4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Believe you can and you're half way ther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heodore Roosevelt</a:t>
            </a: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t takes a long time to bring excellence to maturit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itus Livy</a:t>
            </a:r>
            <a:endParaRPr b="0" lang="en-US" sz="4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Human knowledge is never contained in one person. It grows from the relationships we create between each other and the world, and still it is never complet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ul Kalanithi</a:t>
            </a:r>
            <a:endParaRPr b="0" lang="en-US" sz="4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only source of knowledge is experienc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lbert Einstein</a:t>
            </a:r>
            <a:endParaRPr b="0" lang="en-US" sz="4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very student can learn, just not on the same day or in the same way.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George Evans</a:t>
            </a:r>
            <a:endParaRPr b="0" lang="en-US" sz="4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
          <p:cNvSpPr/>
          <p:nvPr/>
        </p:nvSpPr>
        <p:spPr>
          <a:xfrm>
            <a:off x="1143000" y="990720"/>
            <a:ext cx="70102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pursuit of perfection is frustrating and a waste of time, because nothing is ever perfect. The pursuit of excellence is commendable and worthwhile. Therefore, strive for excellence, not perfection.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Alan Kulwicki</a:t>
            </a:r>
            <a:endParaRPr b="0" lang="en-US" sz="3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when a man or woman asks of himself more than others d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se Ortega Y Gasset</a:t>
            </a:r>
            <a:endParaRPr b="0" lang="en-US" sz="4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perseverance in the presence of obstacle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nonymous</a:t>
            </a:r>
            <a:endParaRPr b="0" lang="en-US" sz="4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Do ordinary things extraordinarily well.</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Gregg Harris</a:t>
            </a:r>
            <a:endParaRPr b="0" lang="en-US" sz="4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must be achieved through the eyes of those who judge us; once achieved it can only be maintained with constant innovatio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om Collins</a:t>
            </a:r>
            <a:endParaRPr b="0" lang="en-US" sz="4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top thinking that you have got another day to do what you should do today, because you may no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Sunday Adelaja</a:t>
            </a:r>
            <a:endParaRPr b="0" lang="en-US" sz="4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ither find a way, or make one....You can bend but you can never break if you want to achieve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Ziad K. Abdelnour</a:t>
            </a:r>
            <a:endParaRPr b="0" lang="en-US" sz="4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erfection is not attainable, but if we chase perfection we can catch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 </a:t>
            </a:r>
            <a:r>
              <a:rPr b="0" lang="en-US" sz="4000" spc="-1" strike="noStrike">
                <a:solidFill>
                  <a:srgbClr val="ffffff"/>
                </a:solidFill>
                <a:latin typeface="Times New Roman"/>
                <a:ea typeface="Times New Roman"/>
              </a:rPr>
              <a:t>Vince Lombardi</a:t>
            </a:r>
            <a:endParaRPr b="0" lang="en-US" sz="4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f you’re walking down the right path and you’re willing to keep walking, eventually you’ll make progres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Barack Obama</a:t>
            </a:r>
            <a:endParaRPr b="0" lang="en-US" sz="4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must adjust to changing times and still hold to unchanging principle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immy Carter</a:t>
            </a:r>
            <a:endParaRPr b="0" lang="en-US" sz="4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truth is the very definition of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Loron-Jon Stokes</a:t>
            </a:r>
            <a:endParaRPr b="0" lang="en-US" sz="4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Virtue is excellence, something uncommonly great and beautiful...</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dam Smith</a:t>
            </a:r>
            <a:endParaRPr b="0" lang="en-US" sz="4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need people who push boundaries rather than retreat inside them.</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Tim Fargo</a:t>
            </a:r>
            <a:endParaRPr b="0" lang="en-US" sz="4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Leadership is bringing people into new realms of excellence and challenging them to become distinguished in their chosen field.</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Onyi Anyado</a:t>
            </a:r>
            <a:endParaRPr b="0" lang="en-US" sz="4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re is an infinite difference between a little wrong and just right, between fairly good and the best, between mediocrity and superiorit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Orison Swett Marden</a:t>
            </a:r>
            <a:endParaRPr b="0" lang="en-US" sz="4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road to excellence is always under construction.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Ramzi Karim</a:t>
            </a:r>
            <a:endParaRPr b="0" lang="en-US" sz="4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re is a moment, a cusp, when the sum of gathered experience is worn down by the details of living. We are never so wise as when we live in this momen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ul Kalanithi</a:t>
            </a:r>
            <a:endParaRPr b="0" lang="en-US" sz="4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tudent is not a container you have to fill but a torch you have to ligh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lbert Einstein</a:t>
            </a:r>
            <a:endParaRPr b="0" lang="en-US" sz="4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1"/>
          <p:cNvSpPr/>
          <p:nvPr/>
        </p:nvSpPr>
        <p:spPr>
          <a:xfrm>
            <a:off x="1143000" y="990720"/>
            <a:ext cx="70102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e need to internalize this idea of excellence. Not many folks spend a lot of time trying to be excellen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Barack Obama</a:t>
            </a:r>
            <a:endParaRPr b="0" lang="en-US" sz="4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 cannot build our own future without helping others to build theirs</a:t>
            </a:r>
            <a:r>
              <a:rPr b="0" lang="en-US" sz="4000" spc="-1" strike="noStrike">
                <a:solidFill>
                  <a:srgbClr val="ffffff"/>
                </a:solidFill>
                <a:latin typeface="Times New Roman"/>
                <a:ea typeface="Times New Roman"/>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Bill Clinton</a:t>
            </a:r>
            <a:endParaRPr b="0" lang="en-US" sz="40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s doing extraordinary things extraordinarily well.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hn W. Gardner</a:t>
            </a:r>
            <a:endParaRPr b="0" lang="en-US" sz="40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future depends on what we do in the presen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hatma Gandhi</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Our goal, simply stated, is to be the bes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ames Robinson</a:t>
            </a:r>
            <a:endParaRPr b="0" lang="en-US" sz="40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t takes time to create excellence. If it could be done quickly more people would do i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John Wooden</a:t>
            </a:r>
            <a:endParaRPr b="0" lang="en-US" sz="40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xcellence in the gradual result of always striving to do bette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Pat Riley</a:t>
            </a:r>
            <a:endParaRPr b="0" lang="en-US" sz="40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f you are going to achieve excellence in big things, you develop the habit in little matters. Excellence is not an exception, it is a prevailing attitud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Colin Powell</a:t>
            </a:r>
            <a:endParaRPr b="0" lang="en-US" sz="40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Education is not filling a bucket, but lighting a fir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William Butler Yeats</a:t>
            </a:r>
            <a:endParaRPr b="0" lang="en-US" sz="40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1"/>
          <p:cNvSpPr/>
          <p:nvPr/>
        </p:nvSpPr>
        <p:spPr>
          <a:xfrm>
            <a:off x="1143000" y="990720"/>
            <a:ext cx="7010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mediocre teacher tells. The good teacher explains. The superior teacher demonstrates. The great teacher inspire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William Arthur Ward</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When you believe you can - you ca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xwell Maltz</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1143000" y="990720"/>
            <a:ext cx="7010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egotiation is permissible for mediocrity not for excellenc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mit Kalantri</a:t>
            </a:r>
            <a:endParaRPr b="0" lang="en-US" sz="40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n the middle of every difficulty lies opportunity.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lbert Einstei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Never doubt that a small group of thoughtful, committed people can change the world; indeed it's the only thing that ever ha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rgaret Mead</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1143000" y="990720"/>
            <a:ext cx="701028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eople will forget what you said, people will forget what you did, but people will never forget how you made them feel.</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ya Angelou</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lways remember the power of the simple smile, a helping hand, a listening ear, and a kind word.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Don Ritchi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1"/>
          <p:cNvSpPr/>
          <p:nvPr/>
        </p:nvSpPr>
        <p:spPr>
          <a:xfrm>
            <a:off x="1143000" y="990720"/>
            <a:ext cx="70102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best way to find yourself, is to lose yourself in the service of other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hatma Gandhi</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1"/>
          <p:cNvSpPr/>
          <p:nvPr/>
        </p:nvSpPr>
        <p:spPr>
          <a:xfrm>
            <a:off x="1143000" y="990720"/>
            <a:ext cx="701028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You can't do anything about the length of your life, but you can do something about its width and depth.</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Evan Esa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 dream you dream alone is only a dream. A dream you dream together is reality.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Yoko Ono</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1143000" y="990720"/>
            <a:ext cx="70102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Life's most persistent and urgent question is “what are you doing for others?”</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Martin Luther King Junior</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23:47:27Z</dcterms:created>
  <dc:creator>Valued Gateway Client</dc:creator>
  <dc:description/>
  <dc:language>en-US</dc:language>
  <cp:lastModifiedBy>Victoria Folse</cp:lastModifiedBy>
  <cp:lastPrinted>2001-02-01T16:46:54Z</cp:lastPrinted>
  <dcterms:modified xsi:type="dcterms:W3CDTF">2018-04-12T15:17:56Z</dcterms:modified>
  <cp:revision>107</cp:revision>
  <dc:subject/>
  <dc:title>Digestion</dc:title>
</cp:coreProperties>
</file>