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F6DD3815-DEE8-4D0E-87D3-BAAB1C1751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4B79867-BA54-4AB4-8480-EAEF6642B0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FCD7DC02-57F0-419F-876A-972B85D9399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31732971-B79C-44E2-8591-F323B73F701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BD9909-5206-4C2A-AB8C-96341C02D5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F2688-6A74-49DB-81D0-2818F8CB8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22D0EF-E05C-4228-8D87-CB0F99EF2C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7517E-1ED0-400F-8149-9E4C50C710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F18FF9-8C96-4447-AFC4-A46E72A168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B858D4-1324-477A-8ED1-5E595AAB38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1C6D8-2FF2-4AF3-9ED3-E221F462E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D76BBE2-626B-40D0-9751-0563A3A240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49E4B-A874-43A6-88FB-0630AF993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1CA85-AC9A-41F4-B618-62DB3765D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BAD8D1-D8AC-4186-A3D5-5795E23B86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B046DD-D2D3-4EF4-A0B4-1C5E400169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39C57C-C0F9-42D3-9D70-5CF43ABCB5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C9EB331E-40BB-4467-B920-71729D1765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322ED32-4B64-4CD3-BB9C-30BC141987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77D81FB-53D1-436E-A38C-026627E449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338887F-5BB5-400B-977E-89FBC9093E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D5C2351-C811-4FA6-9395-A253FBB7DE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12ABF26-88C4-4159-91D7-10CA1A0E5C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F24E407-F8DF-4AE3-85B1-C7F48B23E7E3}"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20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20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20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20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20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20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20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endParaRPr b="0" lang="en-US" sz="20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endParaRPr b="0" lang="en-US" sz="20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endParaRPr b="0" lang="en-US" sz="20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endParaRPr b="0" lang="en-US" sz="20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20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20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20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endParaRPr b="0" lang="en-US" sz="20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endParaRPr b="0" lang="en-US" sz="20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EBCE2-E97B-476A-8A3D-3FACBF03A2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Rectangle 17"/>
            <p:cNvSpPr/>
            <p:nvPr/>
          </p:nvSpPr>
          <p:spPr>
            <a:xfrm flipV="1" rot="18603600">
              <a:off x="643392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 name="Rectangle 18"/>
            <p:cNvSpPr/>
            <p:nvPr/>
          </p:nvSpPr>
          <p:spPr>
            <a:xfrm flipH="1" flipV="1" rot="18391200">
              <a:off x="853020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20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20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20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20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20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20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20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endParaRPr b="0" lang="en-US" sz="20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endParaRPr b="0" lang="en-US" sz="20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endParaRPr b="0" lang="en-US" sz="20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endParaRPr b="0" lang="en-US" sz="20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20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20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20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endParaRPr b="0" lang="en-US" sz="20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endParaRPr b="0" lang="en-US" sz="20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34DE1-74EB-4F9A-A59E-9F21E6E1C2E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1"/>
          <p:cNvSpPr/>
          <p:nvPr/>
        </p:nvSpPr>
        <p:spPr>
          <a:xfrm>
            <a:off x="1143000" y="990720"/>
            <a:ext cx="7010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Excellence is to do a common thing in an uncommon way.</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Booker T. Washington</a:t>
            </a:r>
            <a:endParaRPr b="0" lang="en-US" sz="4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We must have excellence, but we must also have accessibility to that excellenc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Charles Vest</a:t>
            </a:r>
            <a:endParaRPr b="0" lang="en-US" sz="4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1"/>
          <p:cNvSpPr/>
          <p:nvPr/>
        </p:nvSpPr>
        <p:spPr>
          <a:xfrm>
            <a:off x="1143000" y="990720"/>
            <a:ext cx="701028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True happiness is the full use of your powers along lines of excellence in a life affording scop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John F. Kennedy</a:t>
            </a:r>
            <a:endParaRPr b="0" lang="en-US" sz="4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We don’t get a chance to do that many things, and everyone should be really excellent.</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Steve Jobs</a:t>
            </a:r>
            <a:endParaRPr b="0" lang="en-US" sz="4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1"/>
          <p:cNvSpPr/>
          <p:nvPr/>
        </p:nvSpPr>
        <p:spPr>
          <a:xfrm>
            <a:off x="1143000" y="990720"/>
            <a:ext cx="70102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Excellence is an art won by training and habituation…We are what we repeatedly do. Excellence, then, is not an act but a habit.</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Aristotle</a:t>
            </a:r>
            <a:endParaRPr b="0" lang="en-US" sz="4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1"/>
          <p:cNvSpPr/>
          <p:nvPr/>
        </p:nvSpPr>
        <p:spPr>
          <a:xfrm>
            <a:off x="1143000" y="990720"/>
            <a:ext cx="70102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We should not judge people by their peak of excellence; but by the distance they have traveled from the point where they started.</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Henry Ward Beecher</a:t>
            </a:r>
            <a:endParaRPr b="0" lang="en-US" sz="4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1"/>
          <p:cNvSpPr/>
          <p:nvPr/>
        </p:nvSpPr>
        <p:spPr>
          <a:xfrm>
            <a:off x="1143000" y="990720"/>
            <a:ext cx="70102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Three things you cannot recover in life; the WORD after its said, the MOMENT after its missed and the TIME after its gone. Be careful!</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Sunday Adelaja</a:t>
            </a:r>
            <a:endParaRPr b="0" lang="en-US" sz="4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It’s hard to do a really good job on anything you don’t think about in the shower.</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Paul Graham</a:t>
            </a:r>
            <a:endParaRPr b="0" lang="en-US" sz="4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1"/>
          <p:cNvSpPr/>
          <p:nvPr/>
        </p:nvSpPr>
        <p:spPr>
          <a:xfrm>
            <a:off x="1143000" y="990720"/>
            <a:ext cx="701028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If you want to achieve excellence, you can get there today. As of this second, quit doing less-than-excellent work.</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Thomas Watson</a:t>
            </a:r>
            <a:endParaRPr b="0" lang="en-US" sz="4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1"/>
          <p:cNvSpPr/>
          <p:nvPr/>
        </p:nvSpPr>
        <p:spPr>
          <a:xfrm>
            <a:off x="1143000" y="990720"/>
            <a:ext cx="701028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If you are going to achieve excellence in big things, you develop the habit in little matters. Excellence is not an exception, it is a prevailing attitud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Charles R. Swindoll</a:t>
            </a:r>
            <a:endParaRPr b="0" lang="en-US" sz="4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
          <p:cNvSpPr/>
          <p:nvPr/>
        </p:nvSpPr>
        <p:spPr>
          <a:xfrm>
            <a:off x="1143000" y="990720"/>
            <a:ext cx="7010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I have one life and one chance to make it count for something... My faith demands that I do whatever I can, wherever I am, whenever I can, for as long as I can with whatever I have to try to make a difference.</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Jimmy Carter</a:t>
            </a:r>
            <a:endParaRPr b="0" lang="en-US" sz="3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1"/>
          <p:cNvSpPr/>
          <p:nvPr/>
        </p:nvSpPr>
        <p:spPr>
          <a:xfrm>
            <a:off x="1143000" y="990720"/>
            <a:ext cx="7010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The noblest search is the search for excellence.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Lyndon B. Johnson</a:t>
            </a:r>
            <a:endParaRPr b="0" lang="en-US" sz="4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1"/>
          <p:cNvSpPr/>
          <p:nvPr/>
        </p:nvSpPr>
        <p:spPr>
          <a:xfrm>
            <a:off x="1143000" y="990720"/>
            <a:ext cx="7010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The reward for work well done is the opportunity to do mor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Jonas Salk</a:t>
            </a:r>
            <a:endParaRPr b="0" lang="en-US" sz="4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1"/>
          <p:cNvSpPr/>
          <p:nvPr/>
        </p:nvSpPr>
        <p:spPr>
          <a:xfrm>
            <a:off x="1143000" y="990720"/>
            <a:ext cx="701028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You must be resolutely determined that whatever you do shall always be the best of which you are capabl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Charles Popplestone</a:t>
            </a:r>
            <a:endParaRPr b="0" lang="en-US" sz="4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1"/>
          <p:cNvSpPr/>
          <p:nvPr/>
        </p:nvSpPr>
        <p:spPr>
          <a:xfrm>
            <a:off x="1143000" y="990720"/>
            <a:ext cx="701028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There is no excellence without labor. One cannot dream oneself into either usefulness or happiness.</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Liberty Bailey</a:t>
            </a:r>
            <a:endParaRPr b="0" lang="en-US" sz="4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1"/>
          <p:cNvSpPr/>
          <p:nvPr/>
        </p:nvSpPr>
        <p:spPr>
          <a:xfrm>
            <a:off x="1143000" y="990720"/>
            <a:ext cx="701028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We distinguish the excellent man from the common man by saying that the former is the one who makes great demands on himself, and the latter who makes no demands on himself.</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Jose Gasset</a:t>
            </a:r>
            <a:endParaRPr b="0" lang="en-US" sz="4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It is not how much you do, but how much love you put in the doing.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Mother Theresa</a:t>
            </a:r>
            <a:endParaRPr b="0" lang="en-US" sz="4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
          <p:cNvSpPr/>
          <p:nvPr/>
        </p:nvSpPr>
        <p:spPr>
          <a:xfrm>
            <a:off x="1143000" y="990720"/>
            <a:ext cx="701028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Sometimes it is the people no one imagines anything of who do the things that no one can imagine.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Alan Turing</a:t>
            </a:r>
            <a:endParaRPr b="0" lang="en-US" sz="4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1"/>
          <p:cNvSpPr/>
          <p:nvPr/>
        </p:nvSpPr>
        <p:spPr>
          <a:xfrm>
            <a:off x="1143000" y="990720"/>
            <a:ext cx="7010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Worry not that no one knows of you; seek to be worth knowing.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Confucius</a:t>
            </a:r>
            <a:endParaRPr b="0" lang="en-US" sz="4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1"/>
          <p:cNvSpPr/>
          <p:nvPr/>
        </p:nvSpPr>
        <p:spPr>
          <a:xfrm>
            <a:off x="1143000" y="990720"/>
            <a:ext cx="701028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Good teaching cannot be reduced to technique; good teaching comes from the identity and integrity of the teacher.</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Parker Palmer</a:t>
            </a:r>
            <a:endParaRPr b="0" lang="en-US" sz="4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1"/>
          <p:cNvSpPr/>
          <p:nvPr/>
        </p:nvSpPr>
        <p:spPr>
          <a:xfrm>
            <a:off x="1143000" y="990720"/>
            <a:ext cx="70102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Whatever you are, be a good on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Abraham Lincoln</a:t>
            </a:r>
            <a:endParaRPr b="0" lang="en-US" sz="4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Education is the most powerful weapon which you can use to change the world.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Nelson Mandela</a:t>
            </a:r>
            <a:endParaRPr b="0" lang="en-US" sz="4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1"/>
          <p:cNvSpPr/>
          <p:nvPr/>
        </p:nvSpPr>
        <p:spPr>
          <a:xfrm>
            <a:off x="1143000" y="990720"/>
            <a:ext cx="701028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I was raised to believe that excellence is the best deterrent to racism or sexism. And that's how I operate my lif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Oprah Winfrey</a:t>
            </a:r>
            <a:endParaRPr b="0" lang="en-US" sz="4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Nursing is all about touching lives, and lives touching yours along the way.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Unknown</a:t>
            </a:r>
            <a:endParaRPr b="0" lang="en-US" sz="40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1"/>
          <p:cNvSpPr/>
          <p:nvPr/>
        </p:nvSpPr>
        <p:spPr>
          <a:xfrm>
            <a:off x="1143000" y="990720"/>
            <a:ext cx="70102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Always look up at the stars and not down at your feet. Try to make sense of what you see, and wonder about what makes the universe exist. Be curious.</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Stephen Hawking</a:t>
            </a:r>
            <a:endParaRPr b="0" lang="en-US" sz="4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 this life we cannot always do great things, but we can do small things with great lov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Mother </a:t>
            </a:r>
            <a:r>
              <a:rPr b="0" lang="en-US" sz="4000" spc="-1" strike="noStrike">
                <a:solidFill>
                  <a:srgbClr val="ffffff"/>
                </a:solidFill>
                <a:latin typeface="Arial"/>
              </a:rPr>
              <a:t>Teresa</a:t>
            </a:r>
            <a:endParaRPr b="0" lang="en-US" sz="40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Success is not final, failure is not fatal: It is the courage to continue that counts.</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Winston Churchill </a:t>
            </a:r>
            <a:endParaRPr b="0" lang="en-US" sz="4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1"/>
          <p:cNvSpPr/>
          <p:nvPr/>
        </p:nvSpPr>
        <p:spPr>
          <a:xfrm>
            <a:off x="1143000" y="990720"/>
            <a:ext cx="70102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Excellence always sells.</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Earl Nightingale</a:t>
            </a:r>
            <a:endParaRPr b="0" lang="en-US" sz="40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1"/>
          <p:cNvSpPr/>
          <p:nvPr/>
        </p:nvSpPr>
        <p:spPr>
          <a:xfrm>
            <a:off x="1143000" y="990720"/>
            <a:ext cx="70102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Just make up your mind at the very outset that your work is going to stand for quality... that whatever you do shall bear the hallmark of excellenc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Orison Swett Marden</a:t>
            </a:r>
            <a:endParaRPr b="0" lang="en-US" sz="40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1"/>
          <p:cNvSpPr/>
          <p:nvPr/>
        </p:nvSpPr>
        <p:spPr>
          <a:xfrm>
            <a:off x="1143000" y="990720"/>
            <a:ext cx="7010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Not everyone needs to believe in your dream, but you do.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Chris Guillebeau</a:t>
            </a:r>
            <a:endParaRPr b="0" lang="en-US" sz="40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The future belongs to those who believe in the beauty of their dreams.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Eleanor Roosevelt</a:t>
            </a:r>
            <a:endParaRPr b="0" lang="en-US" sz="4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No matter what anyone tells you, words and ideas can change the world.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Robin Williams</a:t>
            </a:r>
            <a:endParaRPr b="0" lang="en-US" sz="40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1"/>
          <p:cNvSpPr/>
          <p:nvPr/>
        </p:nvSpPr>
        <p:spPr>
          <a:xfrm>
            <a:off x="1143000" y="990720"/>
            <a:ext cx="7010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Believe you can and you're half way there.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Theodore Roosevelt</a:t>
            </a:r>
            <a:endParaRPr b="0" lang="en-US" sz="4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
          <p:cNvSpPr/>
          <p:nvPr/>
        </p:nvSpPr>
        <p:spPr>
          <a:xfrm>
            <a:off x="1143000" y="990720"/>
            <a:ext cx="7010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It takes a long time to bring excellence to maturity.</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Titus Livy</a:t>
            </a:r>
            <a:endParaRPr b="0" lang="en-US" sz="4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1"/>
          <p:cNvSpPr/>
          <p:nvPr/>
        </p:nvSpPr>
        <p:spPr>
          <a:xfrm>
            <a:off x="1143000" y="990720"/>
            <a:ext cx="701028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Human knowledge is never contained in one person. It grows from the relationships we create between each other and the world, and still it is never complet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Paul Kalanithi</a:t>
            </a:r>
            <a:endParaRPr b="0" lang="en-US" sz="40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1"/>
          <p:cNvSpPr/>
          <p:nvPr/>
        </p:nvSpPr>
        <p:spPr>
          <a:xfrm>
            <a:off x="1143000" y="990720"/>
            <a:ext cx="7010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The only source of knowledge is experience.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Albert Einstein</a:t>
            </a:r>
            <a:endParaRPr b="0" lang="en-US" sz="40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Every student can learn, just not on the same day or in the same way.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George Evans</a:t>
            </a:r>
            <a:endParaRPr b="0" lang="en-US" sz="40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
          <p:cNvSpPr/>
          <p:nvPr/>
        </p:nvSpPr>
        <p:spPr>
          <a:xfrm>
            <a:off x="1143000" y="990720"/>
            <a:ext cx="70102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The pursuit of perfection is frustrating and a waste of time, because nothing is ever perfect. The pursuit of excellence is commendable and worthwhile. Therefore, strive for excellence, not perfection.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Alan Kulwicki</a:t>
            </a:r>
            <a:endParaRPr b="0" lang="en-US" sz="36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Excellence is when a man or woman asks of himself more than others do.</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Jose Ortega Y Gasset</a:t>
            </a:r>
            <a:endParaRPr b="0" lang="en-US" sz="40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1"/>
          <p:cNvSpPr/>
          <p:nvPr/>
        </p:nvSpPr>
        <p:spPr>
          <a:xfrm>
            <a:off x="1143000" y="990720"/>
            <a:ext cx="7010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Excellence is perseverance in the presence of obstacles.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Anonymous</a:t>
            </a:r>
            <a:endParaRPr b="0" lang="en-US" sz="40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
          <p:cNvSpPr/>
          <p:nvPr/>
        </p:nvSpPr>
        <p:spPr>
          <a:xfrm>
            <a:off x="1143000" y="990720"/>
            <a:ext cx="7010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Do ordinary things extraordinarily well.</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Gregg Harris</a:t>
            </a:r>
            <a:endParaRPr b="0" lang="en-US" sz="40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1"/>
          <p:cNvSpPr/>
          <p:nvPr/>
        </p:nvSpPr>
        <p:spPr>
          <a:xfrm>
            <a:off x="1143000" y="990720"/>
            <a:ext cx="70102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Excellence must be achieved through the eyes of those who judge us; once achieved it can only be maintained with constant innovation.</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Tom Collins</a:t>
            </a:r>
            <a:endParaRPr b="0" lang="en-US" sz="40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1"/>
          <p:cNvSpPr/>
          <p:nvPr/>
        </p:nvSpPr>
        <p:spPr>
          <a:xfrm>
            <a:off x="1143000" y="990720"/>
            <a:ext cx="701028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Stop thinking that you have got another day to do what you should do today, because you may not.</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Sunday Adelaja</a:t>
            </a:r>
            <a:endParaRPr b="0" lang="en-US" sz="40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
          <p:cNvSpPr/>
          <p:nvPr/>
        </p:nvSpPr>
        <p:spPr>
          <a:xfrm>
            <a:off x="1143000" y="990720"/>
            <a:ext cx="701028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Either find a way, or make one....You can bend but you can never break if you want to achieve excellenc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Ziad K. Abdelnour</a:t>
            </a:r>
            <a:endParaRPr b="0" lang="en-US" sz="4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Perfection is not attainable, but if we chase perfection we can catch excellenc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 </a:t>
            </a:r>
            <a:r>
              <a:rPr b="0" lang="en-US" sz="4000" spc="-1" strike="noStrike">
                <a:solidFill>
                  <a:srgbClr val="ffffff"/>
                </a:solidFill>
                <a:latin typeface="Times New Roman"/>
                <a:ea typeface="Times New Roman"/>
              </a:rPr>
              <a:t>Vince Lombardi</a:t>
            </a:r>
            <a:endParaRPr b="0" lang="en-US" sz="40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1"/>
          <p:cNvSpPr/>
          <p:nvPr/>
        </p:nvSpPr>
        <p:spPr>
          <a:xfrm>
            <a:off x="1143000" y="990720"/>
            <a:ext cx="701028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If you’re walking down the right path and you’re willing to keep walking, eventually you’ll make progress.</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Barack Obama</a:t>
            </a:r>
            <a:endParaRPr b="0" lang="en-US" sz="40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We must adjust to changing times and still hold to unchanging principles.</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Jimmy Carter</a:t>
            </a:r>
            <a:endParaRPr b="0" lang="en-US" sz="40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
          <p:cNvSpPr/>
          <p:nvPr/>
        </p:nvSpPr>
        <p:spPr>
          <a:xfrm>
            <a:off x="1143000" y="990720"/>
            <a:ext cx="7010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The truth is the very definition of excellenc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Loron-Jon Stokes</a:t>
            </a:r>
            <a:endParaRPr b="0" lang="en-US" sz="40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Virtue is excellence, something uncommonly great and beautiful...</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Adam Smith</a:t>
            </a:r>
            <a:endParaRPr b="0" lang="en-US" sz="40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We need people who push boundaries rather than retreat inside them.</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Tim Fargo</a:t>
            </a:r>
            <a:endParaRPr b="0" lang="en-US" sz="40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
          <p:cNvSpPr/>
          <p:nvPr/>
        </p:nvSpPr>
        <p:spPr>
          <a:xfrm>
            <a:off x="1143000" y="990720"/>
            <a:ext cx="70102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Leadership is bringing people into new realms of excellence and challenging them to become distinguished in their chosen field.</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Onyi Anyado</a:t>
            </a:r>
            <a:endParaRPr b="0" lang="en-US" sz="40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1"/>
          <p:cNvSpPr/>
          <p:nvPr/>
        </p:nvSpPr>
        <p:spPr>
          <a:xfrm>
            <a:off x="1143000" y="990720"/>
            <a:ext cx="70102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There is an infinite difference between a little wrong and just right, between fairly good and the best, between mediocrity and superiority...</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Orison Swett Marden</a:t>
            </a:r>
            <a:endParaRPr b="0" lang="en-US" sz="40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1"/>
          <p:cNvSpPr/>
          <p:nvPr/>
        </p:nvSpPr>
        <p:spPr>
          <a:xfrm>
            <a:off x="1143000" y="990720"/>
            <a:ext cx="7010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The road to excellence is always under construction.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Ramzi Karim</a:t>
            </a:r>
            <a:endParaRPr b="0" lang="en-US" sz="40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1"/>
          <p:cNvSpPr/>
          <p:nvPr/>
        </p:nvSpPr>
        <p:spPr>
          <a:xfrm>
            <a:off x="1143000" y="990720"/>
            <a:ext cx="70102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There is a moment, a cusp, when the sum of gathered experience is worn down by the details of living. We are never so wise as when we live in this moment.</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Paul Kalanithi</a:t>
            </a:r>
            <a:endParaRPr b="0" lang="en-US" sz="40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Student is not a container you have to fill but a torch you have to ligh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Albert Einstein</a:t>
            </a:r>
            <a:endParaRPr b="0" lang="en-US" sz="4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1"/>
          <p:cNvSpPr/>
          <p:nvPr/>
        </p:nvSpPr>
        <p:spPr>
          <a:xfrm>
            <a:off x="1143000" y="990720"/>
            <a:ext cx="701028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We need to internalize this idea of excellence. Not many folks spend a lot of time trying to be excellent.</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Barack Obama</a:t>
            </a:r>
            <a:endParaRPr b="0" lang="en-US" sz="40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e cannot build our own future without helping others to build theirs</a:t>
            </a:r>
            <a:r>
              <a:rPr b="0" lang="en-US" sz="4000" spc="-1" strike="noStrike">
                <a:solidFill>
                  <a:srgbClr val="ffffff"/>
                </a:solidFill>
                <a:latin typeface="Times New Roman"/>
                <a:ea typeface="Times New Roman"/>
              </a:rPr>
              <a:t>.</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Bill Clinton</a:t>
            </a:r>
            <a:endParaRPr b="0" lang="en-US" sz="40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Excellence is doing extraordinary things extraordinarily well.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John W. Gardner</a:t>
            </a:r>
            <a:endParaRPr b="0" lang="en-US" sz="40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1"/>
          <p:cNvSpPr/>
          <p:nvPr/>
        </p:nvSpPr>
        <p:spPr>
          <a:xfrm>
            <a:off x="1143000" y="990720"/>
            <a:ext cx="70102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The future depends on what we do in the present.</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Mahatma Gandhi</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1"/>
          <p:cNvSpPr/>
          <p:nvPr/>
        </p:nvSpPr>
        <p:spPr>
          <a:xfrm>
            <a:off x="1143000" y="990720"/>
            <a:ext cx="7010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Our goal, simply stated, is to be the best.</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James Robinson</a:t>
            </a:r>
            <a:endParaRPr b="0" lang="en-US" sz="40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It takes time to create excellence. If it could be done quickly more people would do it.</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John Wooden</a:t>
            </a:r>
            <a:endParaRPr b="0" lang="en-US" sz="40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1"/>
          <p:cNvSpPr/>
          <p:nvPr/>
        </p:nvSpPr>
        <p:spPr>
          <a:xfrm>
            <a:off x="1143000" y="990720"/>
            <a:ext cx="7010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Excellence in the gradual result of always striving to do better.</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Pat Riley</a:t>
            </a:r>
            <a:endParaRPr b="0" lang="en-US" sz="40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
          <p:cNvSpPr/>
          <p:nvPr/>
        </p:nvSpPr>
        <p:spPr>
          <a:xfrm>
            <a:off x="1143000" y="990720"/>
            <a:ext cx="701028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If you are going to achieve excellence in big things, you develop the habit in little matters. Excellence is not an exception, it is a prevailing attitud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Colin Powell</a:t>
            </a:r>
            <a:endParaRPr b="0" lang="en-US" sz="4000" spc="-1" strike="noStrike">
              <a:solidFill>
                <a:srgbClr val="fffff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1"/>
          <p:cNvSpPr/>
          <p:nvPr/>
        </p:nvSpPr>
        <p:spPr>
          <a:xfrm>
            <a:off x="1143000" y="990720"/>
            <a:ext cx="7010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Education is not filling a bucket, but lighting a fir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William Butler Yeats</a:t>
            </a:r>
            <a:endParaRPr b="0" lang="en-US" sz="4000" spc="-1" strike="noStrike">
              <a:solidFill>
                <a:srgbClr val="fffff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1"/>
          <p:cNvSpPr/>
          <p:nvPr/>
        </p:nvSpPr>
        <p:spPr>
          <a:xfrm>
            <a:off x="1143000" y="990720"/>
            <a:ext cx="70102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The mediocre teacher tells. The good teacher explains. The superior teacher demonstrates. The great teacher inspires.</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William Arthur Ward</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When you believe you can - you can.</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Maxwell Maltz</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
          <p:cNvSpPr/>
          <p:nvPr/>
        </p:nvSpPr>
        <p:spPr>
          <a:xfrm>
            <a:off x="1143000" y="990720"/>
            <a:ext cx="7010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Negotiation is permissible for mediocrity not for excellenc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Amit Kalantri</a:t>
            </a:r>
            <a:endParaRPr b="0" lang="en-US" sz="4000" spc="-1" strike="noStrike">
              <a:solidFill>
                <a:srgbClr val="ffffff"/>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In the middle of every difficulty lies opportunity.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Albert Einstein</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1"/>
          <p:cNvSpPr/>
          <p:nvPr/>
        </p:nvSpPr>
        <p:spPr>
          <a:xfrm>
            <a:off x="1143000" y="990720"/>
            <a:ext cx="701028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Never doubt that a small group of thoughtful, committed people can change the world; indeed it's the only thing that ever has.</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Margaret Mead</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1"/>
          <p:cNvSpPr/>
          <p:nvPr/>
        </p:nvSpPr>
        <p:spPr>
          <a:xfrm>
            <a:off x="1143000" y="990720"/>
            <a:ext cx="7010280" cy="557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People will forget what you said, people will forget what you did, but people will never forget how you made them feel.</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Maya Angelou</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1"/>
          <p:cNvSpPr/>
          <p:nvPr/>
        </p:nvSpPr>
        <p:spPr>
          <a:xfrm>
            <a:off x="1143000" y="990720"/>
            <a:ext cx="701028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Always remember the power of the simple smile, a helping hand, a listening ear, and a kind word.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Don Ritchie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1"/>
          <p:cNvSpPr/>
          <p:nvPr/>
        </p:nvSpPr>
        <p:spPr>
          <a:xfrm>
            <a:off x="1143000" y="990720"/>
            <a:ext cx="701028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The best way to find yourself, is to lose yourself in the service of others.</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Mahatma Gandhi</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1"/>
          <p:cNvSpPr/>
          <p:nvPr/>
        </p:nvSpPr>
        <p:spPr>
          <a:xfrm>
            <a:off x="1143000" y="990720"/>
            <a:ext cx="7010280" cy="557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You can't do anything about the length of your life, but you can do something about its width and depth.</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Evan Esar</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A dream you dream alone is only a dream. A dream you dream together is reality.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Yoko Ono</a:t>
            </a:r>
            <a:endParaRPr b="0" lang="en-US" sz="4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Life's most persistent and urgent question is “what are you doing for others?”</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Martin Luther King Junior</a:t>
            </a:r>
            <a:endParaRPr b="0" lang="en-US" sz="4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6T23:47:27Z</dcterms:created>
  <dc:creator>Valued Gateway Client</dc:creator>
  <dc:description/>
  <dc:language>en-US</dc:language>
  <cp:lastModifiedBy>Victoria Folse</cp:lastModifiedBy>
  <cp:lastPrinted>2001-02-01T16:46:54Z</cp:lastPrinted>
  <dcterms:modified xsi:type="dcterms:W3CDTF">2018-04-12T15:17:56Z</dcterms:modified>
  <cp:revision>107</cp:revision>
  <dc:subject/>
  <dc:title>Digestion</dc:title>
</cp:coreProperties>
</file>