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2150-1760-40DE-9DC2-B41DD656A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F62D-FAEA-4677-B788-22C8B01E7BBB}"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C135-006C-40F4-A2A4-3B959F1AACCC}"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952E-A102-4212-B82A-DFB7616DA3B5}"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0" y="4114800"/>
            <a:ext cx="6858000" cy="502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s/Family support-affects the satisfaction of the relationship and the couple’s commitment; have fewer support groups and tendency to have little support from family; with teenagers, those with criticism from peers more likely to have trouble with friends in school-Blacks in IR had more peer troubles than Hispanics and Asi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Religious people less tolerant of IRs, however those who tended to read their sacred texts often tended to be more tolerant-may be due to the texts teaching about love and acceptance toward ot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E/GENDER- Some studies no findings for gender. Some do. Men in certain racial groups tend to date interracially more than women; men frown upon women dating interracially (example Latino man against Latina/Black); Black women and White men are more against IR than their counterparts. Asian woman/Black men more likely couple combination of gender and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s Least Acceptable-Whites, Asians and Hispanics tend to date other races instead of Blacks; Whites are more likely to date Hispanics than Asians are to date Hispanics; Blacks least likely to date Whites compared to Asians and Hispan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S-comparing predominately white and black colleges, the black college more against Black/White couple. Further study needs to be done to understand why-maybe don’t want to assimilate into society. Black male college students and White female college students more open to 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Generation Gap- Young more tolerant; types changed as Idating and cohabitating increased with age and marriages decreased. Reflects transition between dating and marriage and how we begin to see dating as we grow older-leading to something more permanent. REASON WHY FOCUS ON COLLEGE-in that time period where dating is leading to marri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98EC-9D5A-4847-9B9C-C041E60BC751}"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F303-E90F-4C42-BDBF-B63C25933F48}"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4FE9-0F6D-4571-926C-C0CC784C22D9}"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6CFC-542C-498E-9DCA-4063E9810C28}"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wise-diverse. Religion was also skewed with 125 religious and 61 nonreligious</a:t>
            </a: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D6E2-7075-450A-9496-63E600527C2E}"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respondents who identified as being Black have been or are currently in this type of relationship.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Whites have not been part of an interracial couple compared to the remaining race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data as a whole, more Black students on the Illinois Wesleyan campus have been a part of an interracial couple.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centages of non-whites being in interracial relationships are higher than those who identified as White.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collected does confirm the hypothesis that more non-White students have been or are currently in an interracial relationship than White students. The data could also give support to the idea of opportunity. Lack of opportunity is a possible reason why White women date Black men when they are more willing to date Asian men (Herman and Campbell 2011). There is also the point that Blacks are “geographically distributed more widely than Asians” (Herman and Campbell 2011), so White woman have a higher chance to being in contact with a Black man compared to a Asian man. </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01DD-7DD2-494F-88AA-1F32A80F9079}"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with diversity in one’s life does affect whether an individual takes part in interracial dating. For some, interracial dating may be considered an only option, while for others it is a way to gain new experiences and learn about other races and cul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385D-F1AC-4FB0-8442-D3D85DCAAF13}"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D360-BF5A-4415-9939-C7585CDFFCC5}" type="slidenum">
              <a:rPr b="0" lang="en-US" sz="1200" spc="-1" strike="noStrike">
                <a:solidFill>
                  <a:srgbClr val="000000"/>
                </a:solidFill>
                <a:latin typeface="Georgia"/>
                <a:ea typeface="Arial"/>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E48EE-35EF-4D28-BBB1-BA02A52E3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9EE51-4782-4729-BFF4-320C9427B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1AB024E-FCE4-4294-B58E-51B72AC4951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5B34A0B-F1A2-4DE5-92CF-44DF1395418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2A93BEF-A525-494E-B6B8-CBC8E1A9293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DC58705-B302-46D1-803D-944FCBC2F66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96CEA23-33B9-4872-A45A-CA468B6349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9912908-BA04-4644-9D08-D5B0083BDED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B492947-DEA3-4458-8300-AA007BDD98C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154C2AF-532E-4627-8D91-77DB335785A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99A0ACD-51D4-4225-ADAF-95D27C42A3C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575BEE3-DF9A-4E7C-AA02-BC694F36DD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FFBE2-1C50-4D5D-9902-849ECF8AF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8FF6BE4-F5A0-4549-9A4F-FE4FE27EFD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05FDFF8-6D79-4068-9DBF-3796952C92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5F33DE1-302D-4ED9-BFF7-A240E6FA23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4405510-4734-4C49-A8B3-7339794B4C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76C7316-638C-4933-B92C-2E64272350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314542F-0CB9-48E4-A01F-B8625CA20F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4FE627B-5D94-403B-8481-29E55B1061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78E3273-F946-412A-8A07-ECFC9B8DE3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979D568-40FA-4F3E-8B22-FD2D1F0B82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316D0D9-6775-416C-A78E-E6A3D01328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43257-D232-4F46-A64B-08A0D7D22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169599F-B3D5-4799-9E8C-7FB837EFFE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98687C-94AC-45B8-B264-50193A7794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E76B97-ADDB-4A11-8FF9-8ABFBDE9CB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CD5BBD-4C1D-4CA5-B8A6-747433D59B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10079B-323C-47FD-853E-0BEA757301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49342F-C396-453B-9399-EA88D4730C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7B9DA4-8382-40CD-B861-A89F81BA8B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3F5EA3-0CAD-46D5-917C-1BEA077C5E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533981-68AB-4254-889F-D6BF190C76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E4C511-970F-4245-811C-E99E6D0613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02943-B20C-4602-BA37-0AF75656D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D66326-12CC-4E5E-8672-421ABBD4DF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2C15CC-A503-47BE-9931-5EB68C4C9C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56A491-5571-45A6-AF67-344668F6B4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B397E8C-5D4D-4B8C-B903-CEE3E11037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B85C4FE-8A1B-4141-A2B3-7732508446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14CC3BE-183F-4C23-B685-B37B94B706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39A7C25-3555-4B94-8972-A895A91E38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BC6C35E-71DE-47E8-B616-0B8DC812B4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EF9236F-1FF5-4A9B-B67C-32FCEE7781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82BB772-8CCC-482B-B3A3-35155305FD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E1894-D67C-465A-9BB4-5ED5AF5B7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10DD082-0E78-41CB-B728-CAF6D71EB6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F5AF9FD-7A63-4167-ACD2-2338C6A104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942B0D9-56A0-4B1D-BC53-6D22C70A44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A8DA996-9984-4230-98B2-AB2BAFF7D6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4E6EB98-993A-4834-8125-57673300CE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20CC5-6405-43F7-AF2B-CCD6F98D6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9B913-6AE3-4A98-B1A4-F1541ED9D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894C1-D90E-4252-9F5C-1E2E1EC54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FAED0-7169-48D2-9C7E-9B3582378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B84F9-DF1C-46AB-8FDE-B30AE1B6E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EAB69-232B-43DC-BFD5-EA282D4AA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4808E-4E07-4FD7-A7FD-8D08E25E3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E0B82-C8C4-463A-82E3-B743816C4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24B79-98CC-4750-80A9-AEEB24928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A33B3-4E5D-4F99-9C58-82B1C071F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C0ECA-AF5A-479E-A9E9-D6F3C467A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D71D25-DD7A-4B60-90E3-FC0F6D4566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33C370-955C-4C40-8576-153BA1D3B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B06E9-9EE2-4D1A-AFA2-4E7BB6462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B4592-E164-4BD0-A467-79FE89053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D19D9-5C62-4F17-AD4E-57098C674A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FBF2A-0B64-47DE-A1EB-FE1A6FD16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E3251-2F6D-444B-839C-1D97F17AA3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F0873-0BED-46DD-81F2-26A09C006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F48A2-CF39-48FD-9C4A-0B441AE16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D19BC-C068-4C36-AC69-C424F189A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D8EF20-3343-43F4-A640-F3B618AC4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AEEECF-D6BC-43E4-91A3-0B814EC7E8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94C19F-BAC6-4FD2-B3F2-C096905909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CC511BF-85C9-4AAB-BF66-A549B5356A0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4C90972-273E-4C43-A9AF-9171473012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D7EC834-5190-46B1-87F0-CC05484E886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EDC75-E28E-405E-81D6-BBD55A9F9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1A97B43-DE56-4A7F-A058-C672563920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C671B34-90FC-44A9-B9FA-1DE769CEEE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3AE3B58-EFE9-47E8-890D-13665F4599C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B0018E9-DBAE-4C47-9242-56845582A8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3E21018-CDE3-4BDF-A29E-EE859A9497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975F047-F10E-4F3F-8362-1324EE04F50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E075DEC-F18C-4D5F-A469-62B3685FFE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90E8110-E50D-4A94-8713-C33EBAAE902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BBC3AD0-9804-436C-84EC-B98633D289A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74D78E-B8FE-4740-B996-B0D3776280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BB044-C531-460D-AA11-0924FA59C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C851B-34C3-47B6-B0CD-ABDC2CD435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038D4-4C3F-432D-A82C-835BF35D1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7C3ADC-2882-4119-A2F4-17A81DAA52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6F151-44A5-43F5-8F97-769474C7E6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629E19-2CCC-4F29-8305-38F212316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82C71-A028-415B-A561-5D579F2F6C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72FAB-4837-452F-93D0-D6E492266F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85632-DF22-489C-98A3-35198DB76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68D23E-A5BC-4ED2-BD3D-1972135692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835AC2-EFBE-405B-86C3-4B47C691E8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FCD93-9560-43FD-8717-FACF653F7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C72589-4B23-4500-962B-01249ACB20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F1366C-FB89-44DF-851B-0180EAFBEC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B1D4C9-E32A-4BD3-B0D5-86694DA0E6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C81091-43F7-4787-99B0-567FB5197D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0584F-864E-4B33-880D-A25E3948BD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24CD81-56AF-43E5-9EB6-836615FA58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9D95B8-03CA-4E8A-B01B-A615634C08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0E4A03-317A-4ABD-8F1F-E078DF718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9A7F3-EA31-4AF4-A140-63028323C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C38C60-AB07-4B2F-B1EA-E5565B626D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07105-F0BE-4A18-AD71-B5C5A0275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376472-6390-4453-9E8C-2FABCD47B1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2C9386-5DCD-4386-AE92-75FA5FDDF0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D49B88-C7F8-470C-941C-5793478AF0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C043D8-D50A-425D-BF48-7B6A266DD3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166D1D-A1A2-43F9-9D9E-9A321C1413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10996F-468E-4ECE-8CD0-23D39F265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236B3B-175C-4F05-9D61-6483EA3568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255FB-C5AF-40C9-A10C-762FDA2DFA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B3FFC-808F-43D5-801F-5D68E6DEA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197E60-8A1B-439E-9A5C-9AFBC9CD6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1D5A-123F-4785-960F-5A0543D2F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782191-5CA7-427D-BF08-58CB4BE27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537F2-8F0B-47A6-B0E2-8674821867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6A633B-24A4-4E2A-AC63-BDEB3E522B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1D11EB-7BEC-47C3-8DDD-3755BFA0DF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21FA67-40FC-46F7-B458-3899CBB213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51FD35-CCAB-4137-B3E8-5D07BA0FFC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0E8500-408E-4BFB-A783-F2F17BA9F1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E72953-A391-4FC0-AA65-5E1373984A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FA077C-C10D-478D-A591-48974DBFAA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15082B-DFAB-4A1E-8B97-AA94B5E94E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45F7A-CDBA-4458-997E-482A9FBD6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4C0F5F-65D8-46F9-BF4C-4AD51825D0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AA0CB6-EEB3-42DA-A693-19458C424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7CFE68-5FE9-459D-866B-1ADA61B698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A9601D-209F-4164-94A7-06BEB7D53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6CBE24-DA15-4230-8979-9ADC09001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0CFE62-7BE3-41FB-9BAB-8597B68CC7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EB1263-1BF7-46C0-B1AB-5A62BB240F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E41FD1B-519D-4CCE-93A9-6FA4026FF57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B0931B2-9FA6-4672-AAA8-CCD6D0E86FB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726F475-4608-46FC-AF24-A24EFAE3B67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F0B8-24CD-4356-B9DC-C034017CDBD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7FFD-8A0E-494E-B47E-07C7B59E35F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BA2C-2DBA-49B3-991A-69CD227AE75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6479-D8A3-4A69-8FA8-B5C73ED1C9B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3A64-4FDD-4E57-B277-229788397D8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F87C-677A-4078-931B-C442F93EAB2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7011-C204-49F9-B821-1A8DF4CA357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DF8F-8267-4128-B1D2-25C42389667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6A10-D815-4EBB-9F1E-85310FC8488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4D9A-A033-4EFD-BC9F-4F09628C853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C93C-569A-4912-AA0A-388F0FAE270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0547-D1C5-442D-A710-AE2849442D1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npierce1@iwu.edu"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ICOLE PIERC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ILLINOIS WESLEYAN UNIVERSIT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DEPARTMENT OF SOCIOLOGY</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6349"/>
                </a:solidFill>
                <a:latin typeface="Georgia"/>
              </a:rPr>
              <a:t>Understanding Attitudes toward Interracial Relationships Among College Students</a:t>
            </a:r>
            <a:endParaRPr b="0" lang="en-US" sz="38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I think that it is very likely that the people may be compatible but because of societal or family pressures, this may become more difficult. I have a friend who is Caucasian and she started [dating] a man whose family was from India. Although the two got along well, ultimately his family pressured him to break up with my friend because she was not Indian.” –White, Fema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iscussion/Conclusion</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ce significant impact, however skewed result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pportunity to date interracially a ke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pport from friends and family importa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ank you!</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you have any questions, concerns, or suggestions, please contact me at </a:t>
            </a:r>
            <a:r>
              <a:rPr b="0" lang="en-US" sz="2700" spc="-1" strike="noStrike" u="sng">
                <a:solidFill>
                  <a:srgbClr val="00a3d6"/>
                </a:solidFill>
                <a:uFillTx/>
                <a:latin typeface="Georgia"/>
                <a:hlinkClick r:id="rId1"/>
              </a:rPr>
              <a:t>npierce1@iwu.edu</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revious Studies</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sons Why Avoiding Interracial Relationship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ear of losing job, limiting career path, abuse, negative reactions from public, being disowned by friends and famil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ligion has an effec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ce and Gend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erracial couples with a black individual least accepta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leg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Generation Ga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at I was Looking For</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itudes, Motivations, and Perceptions of Interracial Relationships</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ypothesis 1: Non-Whites are more likely to be in an interracial relationship than Whites.</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ypothesis 2: Men are more likely to be in an interracial relationship than women.</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ypothesis 3: Non-Religious students are more likely to be in an interracial relationship than Religious students.</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ypothesis 4: Those who have seen more positive portrayals of interracial couples in the media are more likely to be in an interracial relationship than those who have not seen positive portrayals.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thods</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llinois Wesleyan Stud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line survey with multiple choice and open-ended ques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ystematic random sampl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99 responden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verall Findings</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ypothesis 1: Some support (Non-Whites mor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ypothesis 2: Not confirmed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ypothesis 3: Not confirmed but religion affects family suppor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ypothesis 4: Not confirm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lorblindness pres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riend and familial support, opportunity,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mographic Distribution</a:t>
            </a:r>
            <a:endParaRPr b="0" lang="en-US" sz="3300" spc="-1" strike="noStrike">
              <a:solidFill>
                <a:srgbClr val="7b9899"/>
              </a:solidFill>
              <a:latin typeface="Georgia"/>
            </a:endParaRPr>
          </a:p>
        </p:txBody>
      </p:sp>
      <p:pic>
        <p:nvPicPr>
          <p:cNvPr id="624" name="Content Placeholder 4" descr=""/>
          <p:cNvPicPr/>
          <p:nvPr/>
        </p:nvPicPr>
        <p:blipFill>
          <a:blip r:embed="rId1"/>
          <a:stretch/>
        </p:blipFill>
        <p:spPr>
          <a:xfrm>
            <a:off x="250920" y="1320840"/>
            <a:ext cx="4140000" cy="4782960"/>
          </a:xfrm>
          <a:prstGeom prst="rect">
            <a:avLst/>
          </a:prstGeom>
          <a:ln w="0">
            <a:noFill/>
          </a:ln>
        </p:spPr>
      </p:pic>
      <p:pic>
        <p:nvPicPr>
          <p:cNvPr id="625" name="Content Placeholder 5" descr=""/>
          <p:cNvPicPr/>
          <p:nvPr/>
        </p:nvPicPr>
        <p:blipFill>
          <a:blip r:embed="rId2"/>
          <a:stretch/>
        </p:blipFill>
        <p:spPr>
          <a:xfrm>
            <a:off x="4749840" y="1320840"/>
            <a:ext cx="4140000" cy="478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ace</a:t>
            </a:r>
            <a:endParaRPr b="0" lang="en-US" sz="3300" spc="-1" strike="noStrike">
              <a:solidFill>
                <a:srgbClr val="7b9899"/>
              </a:solidFill>
              <a:latin typeface="Georgia"/>
            </a:endParaRPr>
          </a:p>
        </p:txBody>
      </p:sp>
      <p:pic>
        <p:nvPicPr>
          <p:cNvPr id="627" name="Content Placeholder 3" descr=""/>
          <p:cNvPicPr/>
          <p:nvPr/>
        </p:nvPicPr>
        <p:blipFill>
          <a:blip r:embed="rId1"/>
          <a:srcRect l="-632" t="15732" r="-626" b="15346"/>
          <a:stretch/>
        </p:blipFill>
        <p:spPr>
          <a:xfrm>
            <a:off x="304920" y="1828800"/>
            <a:ext cx="85089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There usually are not enough attractive Asian guys.” –Asian, Fema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I was raised in a traditionally African home, went to a predominately white school and lived in a neighborhood that was mostly occupied by minorities…So I basically grew up around a wide range of people and that definitely made me very open to dating people of different races and cultures.” –Black, Fema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upport from Friends and Family</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on theme</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ce not the problem but pressures from friends and family</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The sort of societal and familial pressure felt by those involved, might scare someone from having a relationship with someone of a different ethnicity.” –Asian, Male</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me students said they would date interracially even though they knew friends or family would disapprove</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8T18:01:58Z</dcterms:created>
  <dc:creator>Nikki</dc:creator>
  <dc:description/>
  <dc:language>en-US</dc:language>
  <cp:lastModifiedBy>Staff_Sutter</cp:lastModifiedBy>
  <dcterms:modified xsi:type="dcterms:W3CDTF">2014-06-02T13:36:22Z</dcterms:modified>
  <cp:revision>17</cp:revision>
  <dc:subject/>
  <dc:title>Understanding Attitudes toward Interracial Relationships Among College Students</dc:title>
</cp:coreProperties>
</file>